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highchime.wav" ContentType="audio/x-wav"/>
  <Override PartName="/ppt/media/image3.gif" ContentType="image/gif"/>
  <Override PartName="/ppt/media/camera.wav" ContentType="audio/x-wav"/>
  <Override PartName="/ppt/media/image2.gif" ContentType="image/gif"/>
  <Override PartName="/ppt/media/zapbig0g.wav" ContentType="audio/x-wav"/>
  <Override PartName="/ppt/media/lzipup01.wav" ContentType="audio/x-wav"/>
  <Override PartName="/ppt/media/caralarmoff.wav" ContentType="audio/x-wav"/>
  <Override PartName="/ppt/media/bserie06.wav" ContentType="audio/x-wav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191-03CA-4FBA-A85C-4E8A41F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555-D52C-4316-9ACA-6CA9479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C11-7D66-4713-BEDD-65FC6343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384-9D19-4711-99B1-3F3E5B23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FDD-3CB8-476F-872C-D7D45CA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A1F-DC7F-49CC-8071-15EF61BF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DE4-6EF7-4CA4-995C-8FE03AA6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3A2-6723-4696-B445-746486AC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035-C67D-4A1C-B078-95EC0136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B50-9E32-4F9E-8DB1-7A35B4C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5BD-3A7D-4D7D-8968-094D6B2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638-47BD-47D9-BD33-0F2EB97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B8D6-2FE2-4F36-B326-1DEAD7163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camera.wav"/><Relationship Id="rId4" Type="http://schemas.openxmlformats.org/officeDocument/2006/relationships/audio" Target="../media/lzipup01.wav"/><Relationship Id="rId5" Type="http://schemas.openxmlformats.org/officeDocument/2006/relationships/audio" Target="../media/glass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glass.wav"/><Relationship Id="rId15" Type="http://schemas.openxmlformats.org/officeDocument/2006/relationships/audio" Target="../media/bserie06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caralarmoff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caralarmoff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mera.wav"/><Relationship Id="rId3" Type="http://schemas.openxmlformats.org/officeDocument/2006/relationships/audio" Target="../media/lzipup01.wav"/><Relationship Id="rId4" Type="http://schemas.openxmlformats.org/officeDocument/2006/relationships/audio" Target="../media/glass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glass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lzipup01.wav"/><Relationship Id="rId4" Type="http://schemas.openxmlformats.org/officeDocument/2006/relationships/audio" Target="../media/glass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glass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mera.wav"/><Relationship Id="rId3" Type="http://schemas.openxmlformats.org/officeDocument/2006/relationships/audio" Target="../media/zapbig0g.wav"/><Relationship Id="rId4" Type="http://schemas.openxmlformats.org/officeDocument/2006/relationships/audio" Target="../media/glass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417600" y="1805040"/>
                <a:ext cx="5559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What is 24% of $30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 Compared to Base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319480" y="2697120"/>
                <a:ext cx="560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77960" y="260676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13040" y="2517840"/>
                <a:ext cx="1400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29240" y="2513160"/>
                <a:ext cx="839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05440" y="2651040"/>
                <a:ext cx="50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725480" y="3473280"/>
                <a:ext cx="1065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062160" y="3341520"/>
                <a:ext cx="1401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692440" y="3321000"/>
                <a:ext cx="50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0840" y="4149720"/>
                <a:ext cx="6613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What is 60% of 15 miles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335320" y="5065560"/>
                <a:ext cx="560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93800" y="4975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28880" y="4886280"/>
                <a:ext cx="14004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72080" y="4869000"/>
                <a:ext cx="78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159080" y="5006880"/>
                <a:ext cx="505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741320" y="5842080"/>
                <a:ext cx="1065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97280" y="567216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433680" y="5665680"/>
                <a:ext cx="1683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l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168120" y="1163520"/>
            <a:ext cx="8975880" cy="1509840"/>
            <a:chOff x="168120" y="1163520"/>
            <a:chExt cx="8975880" cy="1509840"/>
          </a:xfrm>
        </p:grpSpPr>
        <p:sp>
          <p:nvSpPr>
            <p:cNvPr id="62" name=""/>
            <p:cNvSpPr/>
            <p:nvPr/>
          </p:nvSpPr>
          <p:spPr>
            <a:xfrm>
              <a:off x="168120" y="116352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7294680" y="1273320"/>
              <a:ext cx="1000080" cy="14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3200" y="2276640"/>
                <a:ext cx="9010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ixty grams is 40% of what weight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 Number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97120" y="3192480"/>
                <a:ext cx="560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787480" y="3017880"/>
                <a:ext cx="89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091040" y="3013200"/>
                <a:ext cx="1400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27760" y="3143160"/>
                <a:ext cx="671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83080" y="3146400"/>
                <a:ext cx="505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327640" y="4770360"/>
                <a:ext cx="1851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336920" y="375300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44720" y="377820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10200" y="3701880"/>
                <a:ext cx="67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898720" y="3716280"/>
                <a:ext cx="674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989440" y="4608360"/>
                <a:ext cx="2409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68120" y="216000"/>
            <a:ext cx="8975880" cy="2084400"/>
            <a:chOff x="168120" y="216000"/>
            <a:chExt cx="8975880" cy="2084400"/>
          </a:xfrm>
        </p:grpSpPr>
        <p:sp>
          <p:nvSpPr>
            <p:cNvPr id="79" name=""/>
            <p:cNvSpPr/>
            <p:nvPr/>
          </p:nvSpPr>
          <p:spPr>
            <a:xfrm>
              <a:off x="168120" y="13622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781680" y="216000"/>
              <a:ext cx="2084400" cy="208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3080" y="2224080"/>
                <a:ext cx="9070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ifteen yards  is 30% of what distance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 Number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30520" y="3116160"/>
                <a:ext cx="560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76680" y="2941560"/>
                <a:ext cx="784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24440" y="2936880"/>
                <a:ext cx="1400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888160" y="2982960"/>
                <a:ext cx="615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16480" y="3070080"/>
                <a:ext cx="50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238720" y="4579920"/>
                <a:ext cx="16826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ar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270320" y="367668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8120" y="37018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043600" y="3625920"/>
                <a:ext cx="672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32120" y="3639960"/>
                <a:ext cx="674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73320" y="4532400"/>
                <a:ext cx="2108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" name=""/>
          <p:cNvGrpSpPr/>
          <p:nvPr/>
        </p:nvGrpSpPr>
        <p:grpSpPr>
          <a:xfrm>
            <a:off x="168120" y="216000"/>
            <a:ext cx="8975880" cy="2084400"/>
            <a:chOff x="168120" y="216000"/>
            <a:chExt cx="8975880" cy="2084400"/>
          </a:xfrm>
        </p:grpSpPr>
        <p:sp>
          <p:nvSpPr>
            <p:cNvPr id="96" name=""/>
            <p:cNvSpPr/>
            <p:nvPr/>
          </p:nvSpPr>
          <p:spPr>
            <a:xfrm>
              <a:off x="168120" y="13622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6781680" y="216000"/>
              <a:ext cx="2084400" cy="208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5360" y="1909800"/>
                <a:ext cx="8675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orty-five is what percent of 180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nt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527280" y="2809800"/>
                <a:ext cx="560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06760" y="2624040"/>
                <a:ext cx="896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237200" y="2732040"/>
                <a:ext cx="67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46720" y="2625840"/>
                <a:ext cx="1119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836960" y="2751120"/>
                <a:ext cx="505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614920" y="4295880"/>
                <a:ext cx="2089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267080" y="337032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4000" y="338472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16440" y="3319560"/>
                <a:ext cx="1120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94080" y="3322800"/>
                <a:ext cx="11239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962440" y="4329000"/>
                <a:ext cx="2651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168120" y="546120"/>
            <a:ext cx="8975880" cy="1305000"/>
            <a:chOff x="168120" y="546120"/>
            <a:chExt cx="8975880" cy="1305000"/>
          </a:xfrm>
        </p:grpSpPr>
        <p:sp>
          <p:nvSpPr>
            <p:cNvPr id="113" name=""/>
            <p:cNvSpPr/>
            <p:nvPr/>
          </p:nvSpPr>
          <p:spPr>
            <a:xfrm>
              <a:off x="168120" y="12254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724800" y="546120"/>
              <a:ext cx="1042920" cy="130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5920" y="1930320"/>
                <a:ext cx="7140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ixty is what percent of 15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nt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70240" y="2792520"/>
                <a:ext cx="560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9360" y="2606760"/>
                <a:ext cx="89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79800" y="2714760"/>
                <a:ext cx="67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356000" y="2608200"/>
                <a:ext cx="784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79920" y="2733840"/>
                <a:ext cx="504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3160" y="4303800"/>
                <a:ext cx="2448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110040" y="335268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6600" y="33670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27520" y="3301920"/>
                <a:ext cx="784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504800" y="3305160"/>
                <a:ext cx="787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00280" y="4299120"/>
                <a:ext cx="180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168120" y="546120"/>
            <a:ext cx="8975880" cy="1305000"/>
            <a:chOff x="168120" y="546120"/>
            <a:chExt cx="8975880" cy="1305000"/>
          </a:xfrm>
        </p:grpSpPr>
        <p:sp>
          <p:nvSpPr>
            <p:cNvPr id="130" name=""/>
            <p:cNvSpPr/>
            <p:nvPr/>
          </p:nvSpPr>
          <p:spPr>
            <a:xfrm>
              <a:off x="168120" y="12254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6724800" y="546120"/>
              <a:ext cx="1042920" cy="130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nd Using Perc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04880" y="2581200"/>
                <a:ext cx="7235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at is 85% of 200 questions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76480" y="3543480"/>
                <a:ext cx="560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34960" y="345276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97040" y="3363840"/>
                <a:ext cx="1344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57800" y="3346560"/>
                <a:ext cx="1231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900600" y="3484440"/>
                <a:ext cx="50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82840" y="4319640"/>
                <a:ext cx="1065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43040" y="4149720"/>
                <a:ext cx="1122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49680" y="4119480"/>
                <a:ext cx="2747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estion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68120" y="1163520"/>
            <a:ext cx="8975880" cy="5694480"/>
            <a:chOff x="168120" y="1163520"/>
            <a:chExt cx="8975880" cy="5694480"/>
          </a:xfrm>
        </p:grpSpPr>
        <p:sp>
          <p:nvSpPr>
            <p:cNvPr id="144" name=""/>
            <p:cNvSpPr/>
            <p:nvPr/>
          </p:nvSpPr>
          <p:spPr>
            <a:xfrm>
              <a:off x="168120" y="1163520"/>
              <a:ext cx="8975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7.  You took a multiple-choice exam with 200 questions. You answered 85% of the questions correctly. How many questions did you answer correctl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6315120" y="4232160"/>
              <a:ext cx="2828880" cy="262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3-02-14T14:30:40Z</dcterms:modified>
  <cp:revision>24</cp:revision>
  <dc:subject/>
  <dc:title>Slide 1</dc:title>
</cp:coreProperties>
</file>